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1.jpeg" ContentType="image/jpeg"/>
  <Override PartName="/ppt/media/image29.png" ContentType="image/png"/>
  <Override PartName="/ppt/media/image17.png" ContentType="image/png"/>
  <Override PartName="/ppt/media/image27.png" ContentType="image/png"/>
  <Override PartName="/ppt/media/image1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0161-26E6-4EA2-A766-54B5D43F82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E2C2-2991-40F1-AB7D-58E41B5F05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2080" y="665280"/>
            <a:ext cx="4687920" cy="351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66960" y="4417560"/>
            <a:ext cx="50767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2B08-06C3-4431-9435-6146092A64A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2080" y="665280"/>
            <a:ext cx="4687920" cy="351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66960" y="4417560"/>
            <a:ext cx="50767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63D-FDF8-4E0A-B414-78E2B742A6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2080" y="665280"/>
            <a:ext cx="4687920" cy="351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66960" y="4417560"/>
            <a:ext cx="50767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9EE-235A-4C33-B642-C99B8059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1F1-2AF7-42FC-A9F8-74CCD40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F18-CB28-4D6B-8B93-E3FA956E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F1F-341F-431F-A1CB-F8831FFF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BD5-3263-4B03-B62A-8BA92C51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EA2-4E36-453F-9A67-FE388896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9B8-06D9-4390-B257-53AC044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EB2-C5FD-4C74-A89C-637056C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AB1-8AD7-4242-85AB-82FBCAE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D7C-0932-4AF9-905A-A463D35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F79-38FB-4F92-9D14-03CDB0A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3F6-065D-4F73-8B4F-E6F1650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3B4D-301D-4360-822C-7706451A2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Organic chemist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c” – derived from living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s such as sugar, urea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alism: natural products needed a “VitalForce” to crea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öhler (1828) synthesis of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7800" y="3782880"/>
            <a:ext cx="5900760" cy="2529000"/>
            <a:chOff x="1477800" y="3782880"/>
            <a:chExt cx="5900760" cy="25290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7800" y="3782880"/>
              <a:ext cx="59007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816200" y="5780160"/>
              <a:ext cx="177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ccff"/>
                  </a:solidFill>
                  <a:latin typeface="Arial"/>
                </a:rPr>
                <a:t>Inorgan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41200" y="5791320"/>
              <a:ext cx="15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ccff"/>
                  </a:solidFill>
                  <a:latin typeface="Arial"/>
                </a:rPr>
                <a:t>Organ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97D-0B1E-465C-9E27-D99D0C37DF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each characteristic as most typical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re  1) inorganic   2) organ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has a high melting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 is not solubl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has a formula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has a formula  M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  burns easily in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  has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5E9-C09D-43D4-8723-B00BD25F6E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each characteristic as most typical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re  1) inorganic   2) organ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.  has a high melting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.  is not solubl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  has a formula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.  has a formula  M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.   burns easily in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.   has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BA5-FAF1-451D-866C-970E55432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ring Organic and Inorganic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09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84240" y="1523880"/>
            <a:ext cx="7397280" cy="4287240"/>
            <a:chOff x="984240" y="1523880"/>
            <a:chExt cx="7397280" cy="42872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rcRect l="0" t="14077" r="54947" b="8510"/>
            <a:stretch/>
          </p:blipFill>
          <p:spPr>
            <a:xfrm>
              <a:off x="984240" y="2024280"/>
              <a:ext cx="4816440" cy="37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rcRect l="58448" t="11731" r="16212" b="10856"/>
            <a:stretch/>
          </p:blipFill>
          <p:spPr>
            <a:xfrm>
              <a:off x="5619600" y="1523880"/>
              <a:ext cx="2761920" cy="40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914400" y="5791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 2005  by Pearson Education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06B-6354-442F-A258-E77B107BF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trahedral Structure of Carb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19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VSEPR 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dicts that a carbon atom with four single, covalent bonds, has a tetrahedral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4419720" cy="41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3AD-F3BE-4879-89CB-B54AAB4841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trahedral Structure of Carb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lecules with two or more carbon atoms, each carbon atom with four single bonds has a tetrahedral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81280" y="1430280"/>
            <a:ext cx="4648320" cy="458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7ED-19C4-4746-87B9-995C73949D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a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explore isomeris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you an ide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compounds that have same chemical formula but different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396216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755-E999-4126-8844-3FCE0E9342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1932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mers are different compounds with the same molecular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major classes of isomers ar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itu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omers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itutional/structural is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different IUPAC names, the same or different functional groups, different physical properties and differ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 only in the way the atoms are oriented in space. They have identical IUPAC names (except for a prefix lik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They always have the same functional group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ticular three-dimensional arrangement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s differ in config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wo Major Classes of Isom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82B-875F-44D8-AC8C-F0F4DB0361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itutional 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isomers hav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formulas but they diff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structural formu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give me the all the structural isomer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2F2-5E81-415A-9506-3C6D8D427C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1440" y="1371600"/>
            <a:ext cx="2515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of consit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mers and stereois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E3C-C9FD-43FE-9B96-15D2F206A5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reoisomers or Geometrical is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ometrical isomers occur in organic molecules  where rotation around a bond is restric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ccurs most often around C=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ost common cases are around asymmetric non-cyclic alke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864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103D-4B1B-407E-BAC4-A16E0DF82E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AC7-A02A-4ADA-8D1B-82C375AD7F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rganic Chemistry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447920"/>
            <a:ext cx="8610480" cy="42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e study of compounds and reactions involving carbon, regardless of sour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ekulé, 186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products” – from living 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chemistry” – the chemistry that occurs in living 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Vegetables, Natural Vitamins from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192-5B71-4960-9D60-7693C09611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61722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Isomers in alk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010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is isomer is one in which the substituents are on the same side of the C=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1480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trans isomer is one in which the substituents are on the opposite sides of the C=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8120" y="2451240"/>
            <a:ext cx="2286000" cy="166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971800" y="5022720"/>
            <a:ext cx="2209680" cy="1606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8864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DC1-36B9-4F2A-815F-2F9D220C3BA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A60-20A0-4E5D-B322-3EF74E4769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Geometrical 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trans isomer has a much higher melting point. Unlike the cis isomer there is little intra-molecular hydrogen bon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738" t="0" r="4304" b="7897"/>
          <a:stretch/>
        </p:blipFill>
        <p:spPr>
          <a:xfrm>
            <a:off x="4800600" y="1066680"/>
            <a:ext cx="3735360" cy="556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8864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E275-74C2-4FE5-9FB7-29E0475BD29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7C7-DBBD-4099-A475-1A477493E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Geometrical 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chemical properties of geometrical isomers tend to be similar but their physical properties are differ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24680" cy="196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22528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6BE4-90D3-408A-8410-83770BAD9BC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C7D-3BBE-4F2D-A885-4917FB16AB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ollowing pairs of compounds consitutional isomers or stereois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143000"/>
          <a:ext cx="374472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3744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9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71600" y="2819520"/>
          <a:ext cx="210492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819520"/>
                    <a:ext cx="2104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8088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4648320"/>
          <a:ext cx="2154240" cy="124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2154240" cy="12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18148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is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BB1-F7F5-46D4-8BF4-527FB18164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84600" y="838080"/>
            <a:ext cx="2482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Types of is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80408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00A-C4CA-42BB-B8E7-C07E1189B3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anti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antiomers must have an asymmetric carbon. (called chiral carb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asymmetric carbon atom has four different atoms or groups attach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895480" cy="205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937040" y="3846600"/>
            <a:ext cx="374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 there are two different ways to arrange the four groups around the chiral carbon atom (shown in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528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779E-A729-4ECD-96A5-CC620A61B92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7E4-614F-41EA-9958-1BBF6BE478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atiomers are mirror images of each other around a chiral carb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these structures may look identical, in three dimensions they are mirror images of each other.  Such molecules are called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enantiom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190760" cy="210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2528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88D-A788-41B1-9FA3-9BC171C242D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7A5-AC82-4238-AB61-AFE1C301DE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791320" y="1600200"/>
            <a:ext cx="2057400" cy="1523880"/>
            <a:chOff x="5791320" y="1600200"/>
            <a:chExt cx="2057400" cy="1523880"/>
          </a:xfrm>
        </p:grpSpPr>
        <p:grpSp>
          <p:nvGrpSpPr>
            <p:cNvPr id="58" name=""/>
            <p:cNvGrpSpPr/>
            <p:nvPr/>
          </p:nvGrpSpPr>
          <p:grpSpPr>
            <a:xfrm>
              <a:off x="5791320" y="1600200"/>
              <a:ext cx="2057400" cy="1523880"/>
              <a:chOff x="5791320" y="1600200"/>
              <a:chExt cx="2057400" cy="1523880"/>
            </a:xfrm>
          </p:grpSpPr>
          <p:sp>
            <p:nvSpPr>
              <p:cNvPr id="59" name=""/>
              <p:cNvSpPr/>
              <p:nvPr/>
            </p:nvSpPr>
            <p:spPr>
              <a:xfrm>
                <a:off x="5791320" y="1600200"/>
                <a:ext cx="205740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" name=""/>
              <p:cNvGraphicFramePr/>
              <p:nvPr/>
            </p:nvGraphicFramePr>
            <p:xfrm>
              <a:off x="6477120" y="1752480"/>
              <a:ext cx="923760" cy="1038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77120" y="1752480"/>
                        <a:ext cx="923760" cy="103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2" name=""/>
            <p:cNvGraphicFramePr/>
            <p:nvPr/>
          </p:nvGraphicFramePr>
          <p:xfrm>
            <a:off x="6620040" y="2819520"/>
            <a:ext cx="1152360" cy="24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0040" y="2819520"/>
                      <a:ext cx="115236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should we c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112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rmaceut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ly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715000" y="4800600"/>
            <a:ext cx="2057400" cy="1828800"/>
            <a:chOff x="5715000" y="4800600"/>
            <a:chExt cx="2057400" cy="1828800"/>
          </a:xfrm>
        </p:grpSpPr>
        <p:sp>
          <p:nvSpPr>
            <p:cNvPr id="67" name=""/>
            <p:cNvSpPr/>
            <p:nvPr/>
          </p:nvSpPr>
          <p:spPr>
            <a:xfrm>
              <a:off x="5715000" y="480060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5867280" y="4800600"/>
            <a:ext cx="175284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4800600"/>
                      <a:ext cx="175284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791320" y="1600200"/>
            <a:ext cx="2057400" cy="1523880"/>
            <a:chOff x="5791320" y="1600200"/>
            <a:chExt cx="2057400" cy="1523880"/>
          </a:xfrm>
        </p:grpSpPr>
        <p:grpSp>
          <p:nvGrpSpPr>
            <p:cNvPr id="71" name=""/>
            <p:cNvGrpSpPr/>
            <p:nvPr/>
          </p:nvGrpSpPr>
          <p:grpSpPr>
            <a:xfrm>
              <a:off x="5791320" y="1600200"/>
              <a:ext cx="2057400" cy="1523880"/>
              <a:chOff x="5791320" y="1600200"/>
              <a:chExt cx="2057400" cy="1523880"/>
            </a:xfrm>
          </p:grpSpPr>
          <p:sp>
            <p:nvSpPr>
              <p:cNvPr id="72" name=""/>
              <p:cNvSpPr/>
              <p:nvPr/>
            </p:nvSpPr>
            <p:spPr>
              <a:xfrm>
                <a:off x="5791320" y="1600200"/>
                <a:ext cx="205740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3" name=""/>
              <p:cNvGraphicFramePr/>
              <p:nvPr/>
            </p:nvGraphicFramePr>
            <p:xfrm>
              <a:off x="6477120" y="1752480"/>
              <a:ext cx="1247760" cy="104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77120" y="1752480"/>
                        <a:ext cx="1247760" cy="104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5" name=""/>
            <p:cNvGraphicFramePr/>
            <p:nvPr/>
          </p:nvGraphicFramePr>
          <p:xfrm>
            <a:off x="6039000" y="2819520"/>
            <a:ext cx="1733400" cy="24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39000" y="2819520"/>
                      <a:ext cx="17334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5638680" y="3352680"/>
            <a:ext cx="1904760" cy="1218960"/>
            <a:chOff x="5638680" y="3352680"/>
            <a:chExt cx="1904760" cy="1218960"/>
          </a:xfrm>
        </p:grpSpPr>
        <p:sp>
          <p:nvSpPr>
            <p:cNvPr id="78" name=""/>
            <p:cNvSpPr/>
            <p:nvPr/>
          </p:nvSpPr>
          <p:spPr>
            <a:xfrm>
              <a:off x="5638680" y="3352680"/>
              <a:ext cx="190476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5828760" y="3439440"/>
            <a:ext cx="1559520" cy="1001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28760" y="3439440"/>
                      <a:ext cx="15595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26C-D0BA-4E80-AA9C-827B449F49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ree dimensional nature of molecules, such as ibuprofen, is fundamental to all of their properties including biological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011320" cy="285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190512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 H 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6360" y="2046240"/>
            <a:ext cx="48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77880" y="2031840"/>
            <a:ext cx="48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387" t="23881" r="4476" b="24777"/>
          <a:stretch/>
        </p:blipFill>
        <p:spPr>
          <a:xfrm>
            <a:off x="3657600" y="3400560"/>
            <a:ext cx="5029200" cy="2771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1E1-927A-419D-A5F7-BD37DA07F189}" type="slidenum">
              <a:t>4</a:t>
            </a:fld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45720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p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1613" t="17425" r="0" b="24504"/>
          <a:stretch/>
        </p:blipFill>
        <p:spPr>
          <a:xfrm>
            <a:off x="1900080" y="1523880"/>
            <a:ext cx="3891240" cy="255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BEE-83FF-446E-BE68-C120CA0FB091}" type="slidenum">
              <a:t>5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44444E-006 L 0.31285 -0.1 E">
                                      <p:cBhvr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5683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all and stick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4840" y="9360"/>
            <a:ext cx="44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Dop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neurotransmit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sent in 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1613" t="17425" r="0" b="24504"/>
          <a:stretch/>
        </p:blipFill>
        <p:spPr>
          <a:xfrm>
            <a:off x="2819520" y="2666880"/>
            <a:ext cx="3890880" cy="255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81680" y="487692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267080" y="4615920"/>
            <a:ext cx="24386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48520" y="2133720"/>
            <a:ext cx="2438280" cy="946080"/>
            <a:chOff x="6248520" y="2133720"/>
            <a:chExt cx="2438280" cy="946080"/>
          </a:xfrm>
        </p:grpSpPr>
        <p:sp>
          <p:nvSpPr>
            <p:cNvPr id="99" name=""/>
            <p:cNvSpPr/>
            <p:nvPr/>
          </p:nvSpPr>
          <p:spPr>
            <a:xfrm>
              <a:off x="6553080" y="21337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Arial"/>
                </a:rPr>
                <a:t>nitro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248520" y="2622600"/>
              <a:ext cx="30456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7200" y="2209680"/>
            <a:ext cx="2438280" cy="717480"/>
            <a:chOff x="457200" y="2209680"/>
            <a:chExt cx="2438280" cy="717480"/>
          </a:xfrm>
        </p:grpSpPr>
        <p:sp>
          <p:nvSpPr>
            <p:cNvPr id="102" name=""/>
            <p:cNvSpPr/>
            <p:nvPr/>
          </p:nvSpPr>
          <p:spPr>
            <a:xfrm>
              <a:off x="457200" y="2209680"/>
              <a:ext cx="2133720" cy="64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aeaea"/>
                  </a:solidFill>
                  <a:latin typeface="Arial"/>
                </a:rPr>
                <a:t>hydro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269856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4723920"/>
            <a:ext cx="2437920" cy="1176480"/>
            <a:chOff x="457200" y="4723920"/>
            <a:chExt cx="2437920" cy="1176480"/>
          </a:xfrm>
        </p:grpSpPr>
        <p:sp>
          <p:nvSpPr>
            <p:cNvPr id="105" name=""/>
            <p:cNvSpPr/>
            <p:nvPr/>
          </p:nvSpPr>
          <p:spPr>
            <a:xfrm>
              <a:off x="457200" y="52578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oxy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57040" y="4723920"/>
              <a:ext cx="8380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C0F-0BD5-433C-B4D5-672FD88704F7}" type="slidenum">
              <a:t>6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organic 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mpound made from carbon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one or more C ato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many H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contain O, S, N, and halo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615-0304-4B84-A105-59AB699025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ganic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4648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organic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ovalent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low melting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low boiling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flam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oluble in nonpolar sol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soluble in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33800" y="2052720"/>
            <a:ext cx="2683080" cy="337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5410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il (organic) and water (inorganic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D81-6A10-4AED-8BFD-F71F288E1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ganic vs. Inorga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ane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n organic compound used as a f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, salt, is an inorganic compound composed of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Why is propane organic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but NaCl is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73560" y="2193840"/>
            <a:ext cx="4184640" cy="38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57C-ABDF-4735-BBBA-D8B2F2769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C363966</cp:lastModifiedBy>
  <dcterms:modified xsi:type="dcterms:W3CDTF">2012-10-02T23:52:51Z</dcterms:modified>
  <cp:revision>458</cp:revision>
  <dc:subject/>
  <dc:title>PowerPoint Presentation</dc:title>
</cp:coreProperties>
</file>